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FFEA7-3F56-455A-82A9-2E97A1F5A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3A814-9346-4E77-830E-A2CECE370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308D30-2B90-4715-8BF3-7BDAD642BB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D2DD62-E60D-44B3-9A96-144311D55F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997706-0728-494B-941C-650BB10F89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F2E70C-3670-4D63-9066-C2B0EE586E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79F106-3523-416B-ADCA-65758C56DF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58E6B6-AE4A-4868-B928-5C9C0A110A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3FA8B7-69CB-458B-AC91-AA438B3268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687C71-2BCD-41D1-982A-C11423C7EA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44EF22-3BB3-403D-931C-598F31C554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77D9F-7E74-460E-8F8E-9813C86CA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BA380-76F6-42E5-85B8-3158BF0F3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558235-DE79-497E-80D8-F40E1D6FB0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26C7F-AD78-4E8B-A53B-2DF69528B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AF7C8-7053-4E0D-BAB1-94CD63C18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B6DB7-4E52-4D88-9778-E0651CC12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97428-0492-45E9-9D37-4ADB70E27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A7C3A-A5F8-405D-8494-FBA922C77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FEBD5-9DB2-4325-AB85-37132A6AF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053F1-C7C7-4566-8B52-FF32073F1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1699C-7E56-47B4-BA7F-5A067B286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9F4F0-2F6E-4862-A1FD-5229DFAAA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06485-2A50-49F1-8204-6C2E15939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EE5820-E415-496D-82B1-BE206CE115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DC2508-55AF-4487-9080-BCEBAC717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6AD41D-3D84-4034-8F9F-D149D80BB9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6758BF-C922-458D-8F86-0AFE314C40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C19C31-5E48-4502-B6AA-809C39124C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B3628C-A2E0-4629-A7E0-31560D7E67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8D8AB9-D445-4BD1-97E7-1056E1B5A0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E56B6-4FEF-411A-985C-97380CCC9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0DE53C-223E-477B-8EB5-557E72853F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B947EF-3F1D-4B28-81F8-135973DAA9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C1C3BD-D738-4DEB-9251-D6B251ECB6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5B2426-B54B-403C-A81C-1E8CE9253C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9A999A-67CA-46B2-AC66-DA793B7610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F25AAE-868D-4B08-AC44-5C73228885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6F43A9-9D5B-4ABA-94D4-5A61D26DFD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02B099-BE1B-4F0C-B4E6-FC29791F32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555308-701A-4EB6-B076-5193426844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A68786-B377-40E8-9E13-C515B6C43B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75038-42DB-407C-A4BE-4E6A4E552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AFAE0E-A66B-4BD5-9182-9B7628326D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095730-57A8-4F1E-82C1-EB987BC960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7D2596-460B-435F-BF45-E90429877F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ECEE57-5BAC-444D-A01A-100FFD7ADF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B7A366-AE3D-44CF-97B2-C62A66E826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1948ED-3DF2-4E44-9BFE-7EAB1CA539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9AFFAF-406C-4052-9A23-E84E17A521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F1FF5E-AA1B-4797-B00B-D751CBD3A5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5F6981-9BCE-44D1-B9A5-549EBBD8D1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619C86-D901-4A10-B61A-5ED33EA05C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45EB2-D6AA-4F9E-A472-1EFBD9F10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3A902C-ECE7-4166-8D47-B869DE549D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4C02B7-3F93-460F-BFEA-A521E49149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1CDB41-D360-4179-9E3D-FF775B060A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8CD11A-E7BC-468F-BEA6-C5703B1796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60A817-6B9B-4970-934E-18E2FF9440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B0F36F-CFC7-4076-96C4-31BBC4C6A5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11DF4B-CE00-4B3A-8733-6424174044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0201A9-C3BC-4F43-9382-6716ED375E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88F45A-F367-43C4-BD66-49266FA40E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11C562-2152-410C-BAF3-857FA7FF6A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16651-EAA4-44A1-952B-F01EB7E3D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6DCFFA-FFCE-4C09-A74F-EC5609E359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E29146-8A7A-49BC-9F54-A0778EB9FF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587729-BEA5-4FE5-A7BD-44E7C5FFA1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B5D7DE-4946-4EC4-8439-305E6116B5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9399B9-7EEB-4872-8EAA-BB16DCCCDE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CC44A8-749C-4B15-B70C-3A1DC66121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63B0B6-370A-4005-A47C-711EEC46FD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4C2CF8-51C4-4631-8B3E-09FFCF1AF0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8A320C-C780-4EE0-BBE4-3430005ADB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9F60F7-8A1C-48BF-84CE-DC201A9C0D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0144F-8554-445E-B8E8-4799B0B96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8AEF94-E136-4372-9BAD-C0422F7261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A7D877-4F73-4E4D-A2C0-3FF6A547B6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8B14D1-21A8-42F9-9952-00F24B798C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8782C8-AA5D-4582-B4FD-A00DA9E8B5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C3B095-1019-4B73-889B-B9716F01F7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2F99AE-EA43-45DB-979F-053FB1999B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15210B-4541-4FFB-B753-BA8C1EE5C6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C0E3A1-3FB2-4A17-B7EE-42EECA7E64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DDB9DD-76CA-44A3-9F46-553B435419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FAF644-10EF-4E51-BA04-7DE9BD66CE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8FF17-D013-43C7-B5D6-9C61B4691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47E032-E840-49EE-9DA2-4B114E8DE7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6F2930-91F2-4E96-9D01-FEFE1A9C81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276AE8-9EAC-4764-A0CB-3C7468C1CB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B68E3D-BAE7-4EB7-93FC-AECB8A82A5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7874A8-AF2F-4712-BDBE-0EF865278D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A37D69-078A-48E3-894A-7250022009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506504-F8A9-4CCC-9351-CB0BB9A99D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391E28-EC51-480F-BF71-88659C438E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793721-9028-4E6D-AD16-C82BF8F1F7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79F5AE-74E6-4CBC-A653-ED02C40CDF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9BAA0-8EFB-4AB8-83C8-A1FAA3B52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502BA6-2F47-43B7-B7CF-0107839266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5D4570-E500-465D-83D9-0C66A97BD0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45969C-E824-4536-A0F2-4C0791CD61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1A11E6-F1EF-47BB-B4E8-FDB98D3335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18FE7A-C6CD-41BF-883B-B3B5643917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6D4D5C-F3F2-4009-8E25-9AA2D40294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0A3EBF-B63E-4466-9594-9DCA06A73C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AE8296-E83C-4F48-A73C-D139717F00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901D4F-26E7-4637-A134-DE58584911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AA02EA-B363-44D6-B7C5-C3CC79092A5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871560"/>
            <a:ext cx="8631360" cy="12600"/>
            <a:chOff x="512640" y="871560"/>
            <a:chExt cx="8631360" cy="12600"/>
          </a:xfrm>
        </p:grpSpPr>
        <p:pic>
          <p:nvPicPr>
            <p:cNvPr id="1" name="Straight Connector 6" descr=""/>
            <p:cNvPicPr/>
            <p:nvPr/>
          </p:nvPicPr>
          <p:blipFill>
            <a:blip r:embed="rId3"/>
            <a:stretch/>
          </p:blipFill>
          <p:spPr>
            <a:xfrm>
              <a:off x="512640" y="871560"/>
              <a:ext cx="8631360" cy="12600"/>
            </a:xfrm>
            <a:prstGeom prst="rect">
              <a:avLst/>
            </a:prstGeom>
            <a:ln w="0">
              <a:noFill/>
            </a:ln>
          </p:spPr>
        </p:pic>
        <p:sp>
          <p:nvSpPr>
            <p:cNvPr id="2" name=""/>
            <p:cNvSpPr/>
            <p:nvPr/>
          </p:nvSpPr>
          <p:spPr>
            <a:xfrm>
              <a:off x="514440" y="8762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ea typeface="Tahoma"/>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D1691-B9E7-4B7B-90F2-EF612A36146A}" type="slidenum">
              <a:rPr b="0" lang="ar-IQ"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871560"/>
            <a:ext cx="8631360" cy="12600"/>
            <a:chOff x="512640" y="871560"/>
            <a:chExt cx="8631360" cy="12600"/>
          </a:xfrm>
        </p:grpSpPr>
        <p:pic>
          <p:nvPicPr>
            <p:cNvPr id="9" name="Straight Connector 8" descr=""/>
            <p:cNvPicPr/>
            <p:nvPr/>
          </p:nvPicPr>
          <p:blipFill>
            <a:blip r:embed="rId4"/>
            <a:stretch/>
          </p:blipFill>
          <p:spPr>
            <a:xfrm>
              <a:off x="512640" y="871560"/>
              <a:ext cx="8631360" cy="12600"/>
            </a:xfrm>
            <a:prstGeom prst="rect">
              <a:avLst/>
            </a:prstGeom>
            <a:ln w="0">
              <a:noFill/>
            </a:ln>
          </p:spPr>
        </p:pic>
        <p:sp>
          <p:nvSpPr>
            <p:cNvPr id="10" name=""/>
            <p:cNvSpPr/>
            <p:nvPr/>
          </p:nvSpPr>
          <p:spPr>
            <a:xfrm>
              <a:off x="514440" y="8762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 name="Straight Connector 11"/>
          <p:cNvGrpSpPr/>
          <p:nvPr/>
        </p:nvGrpSpPr>
        <p:grpSpPr>
          <a:xfrm>
            <a:off x="512640" y="878040"/>
            <a:ext cx="8631360" cy="12600"/>
            <a:chOff x="512640" y="878040"/>
            <a:chExt cx="8631360" cy="12600"/>
          </a:xfrm>
        </p:grpSpPr>
        <p:pic>
          <p:nvPicPr>
            <p:cNvPr id="12" name="Straight Connector 11" descr=""/>
            <p:cNvPicPr/>
            <p:nvPr/>
          </p:nvPicPr>
          <p:blipFill>
            <a:blip r:embed="rId5"/>
            <a:stretch/>
          </p:blipFill>
          <p:spPr>
            <a:xfrm>
              <a:off x="512640" y="878040"/>
              <a:ext cx="8631360" cy="12600"/>
            </a:xfrm>
            <a:prstGeom prst="rect">
              <a:avLst/>
            </a:prstGeom>
            <a:ln w="0">
              <a:noFill/>
            </a:ln>
          </p:spPr>
        </p:pic>
        <p:sp>
          <p:nvSpPr>
            <p:cNvPr id="13" name=""/>
            <p:cNvSpPr/>
            <p:nvPr/>
          </p:nvSpPr>
          <p:spPr>
            <a:xfrm>
              <a:off x="514440" y="8809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4449600"/>
            <a:ext cx="8631360" cy="19080"/>
            <a:chOff x="512640" y="4449600"/>
            <a:chExt cx="8631360" cy="19080"/>
          </a:xfrm>
        </p:grpSpPr>
        <p:pic>
          <p:nvPicPr>
            <p:cNvPr id="51" name="Straight Connector 12" descr=""/>
            <p:cNvPicPr/>
            <p:nvPr/>
          </p:nvPicPr>
          <p:blipFill>
            <a:blip r:embed="rId3"/>
            <a:stretch/>
          </p:blipFill>
          <p:spPr>
            <a:xfrm>
              <a:off x="512640" y="4449600"/>
              <a:ext cx="8631360" cy="19080"/>
            </a:xfrm>
            <a:prstGeom prst="rect">
              <a:avLst/>
            </a:prstGeom>
            <a:ln w="0">
              <a:noFill/>
            </a:ln>
          </p:spPr>
        </p:pic>
        <p:sp>
          <p:nvSpPr>
            <p:cNvPr id="52" name=""/>
            <p:cNvSpPr/>
            <p:nvPr/>
          </p:nvSpPr>
          <p:spPr>
            <a:xfrm>
              <a:off x="514440" y="445788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ea typeface="Tahoma"/>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5394240"/>
            <a:ext cx="758880" cy="206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557A-0DC2-4972-90F3-98FA9875453E}" type="slidenum">
              <a:rPr b="0" lang="ar-IQ"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871560"/>
            <a:ext cx="8631360" cy="12600"/>
            <a:chOff x="512640" y="871560"/>
            <a:chExt cx="8631360" cy="12600"/>
          </a:xfrm>
        </p:grpSpPr>
        <p:pic>
          <p:nvPicPr>
            <p:cNvPr id="95" name="Straight Connector 6" descr=""/>
            <p:cNvPicPr/>
            <p:nvPr/>
          </p:nvPicPr>
          <p:blipFill>
            <a:blip r:embed="rId3"/>
            <a:stretch/>
          </p:blipFill>
          <p:spPr>
            <a:xfrm>
              <a:off x="512640" y="871560"/>
              <a:ext cx="8631360" cy="12600"/>
            </a:xfrm>
            <a:prstGeom prst="rect">
              <a:avLst/>
            </a:prstGeom>
            <a:ln w="0">
              <a:noFill/>
            </a:ln>
          </p:spPr>
        </p:pic>
        <p:sp>
          <p:nvSpPr>
            <p:cNvPr id="96" name=""/>
            <p:cNvSpPr/>
            <p:nvPr/>
          </p:nvSpPr>
          <p:spPr>
            <a:xfrm>
              <a:off x="514440" y="8762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97" name="Straight Connector 8"/>
          <p:cNvGrpSpPr/>
          <p:nvPr/>
        </p:nvGrpSpPr>
        <p:grpSpPr>
          <a:xfrm>
            <a:off x="512640" y="871560"/>
            <a:ext cx="8631360" cy="12600"/>
            <a:chOff x="512640" y="871560"/>
            <a:chExt cx="8631360" cy="12600"/>
          </a:xfrm>
        </p:grpSpPr>
        <p:pic>
          <p:nvPicPr>
            <p:cNvPr id="98" name="Straight Connector 8" descr=""/>
            <p:cNvPicPr/>
            <p:nvPr/>
          </p:nvPicPr>
          <p:blipFill>
            <a:blip r:embed="rId4"/>
            <a:stretch/>
          </p:blipFill>
          <p:spPr>
            <a:xfrm>
              <a:off x="512640" y="871560"/>
              <a:ext cx="8631360" cy="12600"/>
            </a:xfrm>
            <a:prstGeom prst="rect">
              <a:avLst/>
            </a:prstGeom>
            <a:ln w="0">
              <a:noFill/>
            </a:ln>
          </p:spPr>
        </p:pic>
        <p:sp>
          <p:nvSpPr>
            <p:cNvPr id="99" name=""/>
            <p:cNvSpPr/>
            <p:nvPr/>
          </p:nvSpPr>
          <p:spPr>
            <a:xfrm>
              <a:off x="514440" y="8762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0" name="Straight Connector 11"/>
          <p:cNvGrpSpPr/>
          <p:nvPr/>
        </p:nvGrpSpPr>
        <p:grpSpPr>
          <a:xfrm>
            <a:off x="512640" y="878040"/>
            <a:ext cx="8631360" cy="12600"/>
            <a:chOff x="512640" y="878040"/>
            <a:chExt cx="8631360" cy="12600"/>
          </a:xfrm>
        </p:grpSpPr>
        <p:pic>
          <p:nvPicPr>
            <p:cNvPr id="101" name="Straight Connector 11" descr=""/>
            <p:cNvPicPr/>
            <p:nvPr/>
          </p:nvPicPr>
          <p:blipFill>
            <a:blip r:embed="rId5"/>
            <a:stretch/>
          </p:blipFill>
          <p:spPr>
            <a:xfrm>
              <a:off x="512640" y="878040"/>
              <a:ext cx="8631360" cy="12600"/>
            </a:xfrm>
            <a:prstGeom prst="rect">
              <a:avLst/>
            </a:prstGeom>
            <a:ln w="0">
              <a:noFill/>
            </a:ln>
          </p:spPr>
        </p:pic>
        <p:sp>
          <p:nvSpPr>
            <p:cNvPr id="102" name=""/>
            <p:cNvSpPr/>
            <p:nvPr/>
          </p:nvSpPr>
          <p:spPr>
            <a:xfrm>
              <a:off x="514440" y="8809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ea typeface="Tahoma"/>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63000"/>
            <a:ext cx="28958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5394240"/>
            <a:ext cx="758880" cy="206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4CAB-9656-4A67-B687-AD01706024AB}" type="slidenum">
              <a:rPr b="0" lang="ar-IQ"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2865600"/>
            <a:ext cx="8631360" cy="10800"/>
            <a:chOff x="512640" y="2865600"/>
            <a:chExt cx="8631360" cy="10800"/>
          </a:xfrm>
        </p:grpSpPr>
        <p:pic>
          <p:nvPicPr>
            <p:cNvPr id="145" name="Straight Connector 12" descr=""/>
            <p:cNvPicPr/>
            <p:nvPr/>
          </p:nvPicPr>
          <p:blipFill>
            <a:blip r:embed="rId3"/>
            <a:stretch/>
          </p:blipFill>
          <p:spPr>
            <a:xfrm>
              <a:off x="512640" y="2865600"/>
              <a:ext cx="8631360" cy="10800"/>
            </a:xfrm>
            <a:prstGeom prst="rect">
              <a:avLst/>
            </a:prstGeom>
            <a:ln w="0">
              <a:noFill/>
            </a:ln>
          </p:spPr>
        </p:pic>
        <p:sp>
          <p:nvSpPr>
            <p:cNvPr id="146" name=""/>
            <p:cNvSpPr/>
            <p:nvPr/>
          </p:nvSpPr>
          <p:spPr>
            <a:xfrm>
              <a:off x="514440" y="287028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1872000" indent="-20772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1872000" indent="-20772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ea typeface="Tahoma"/>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A2E2-53BF-4EE1-A1C3-2FA6007059DA}" type="slidenum">
              <a:rPr b="0" lang="ar-IQ"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5010120"/>
            <a:ext cx="8631360" cy="12600"/>
            <a:chOff x="512640" y="5010120"/>
            <a:chExt cx="8631360" cy="12600"/>
          </a:xfrm>
        </p:grpSpPr>
        <p:pic>
          <p:nvPicPr>
            <p:cNvPr id="189" name="Straight Connector 12" descr=""/>
            <p:cNvPicPr/>
            <p:nvPr/>
          </p:nvPicPr>
          <p:blipFill>
            <a:blip r:embed="rId3"/>
            <a:stretch/>
          </p:blipFill>
          <p:spPr>
            <a:xfrm>
              <a:off x="512640" y="5010120"/>
              <a:ext cx="8631360" cy="12600"/>
            </a:xfrm>
            <a:prstGeom prst="rect">
              <a:avLst/>
            </a:prstGeom>
            <a:ln w="0">
              <a:noFill/>
            </a:ln>
          </p:spPr>
        </p:pic>
        <p:sp>
          <p:nvSpPr>
            <p:cNvPr id="190" name=""/>
            <p:cNvSpPr/>
            <p:nvPr/>
          </p:nvSpPr>
          <p:spPr>
            <a:xfrm>
              <a:off x="514440" y="50166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ea typeface="Tahoma"/>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5397120"/>
            <a:ext cx="762120" cy="20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C6089-C9DC-4B54-A00E-69A07CD5E934}" type="slidenum">
              <a:rPr b="0" lang="ar-IQ"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ea typeface="Tahom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F605-E45E-4A9D-9DD9-E6077EB4F7B4}" type="slidenum">
              <a:rPr b="0" lang="ar-IQ"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4870440"/>
            <a:ext cx="8631360" cy="12600"/>
            <a:chOff x="512640" y="4870440"/>
            <a:chExt cx="8631360" cy="12600"/>
          </a:xfrm>
        </p:grpSpPr>
        <p:pic>
          <p:nvPicPr>
            <p:cNvPr id="274" name="Straight Connector 12" descr=""/>
            <p:cNvPicPr/>
            <p:nvPr/>
          </p:nvPicPr>
          <p:blipFill>
            <a:blip r:embed="rId3"/>
            <a:stretch/>
          </p:blipFill>
          <p:spPr>
            <a:xfrm>
              <a:off x="512640" y="4870440"/>
              <a:ext cx="8631360" cy="12600"/>
            </a:xfrm>
            <a:prstGeom prst="rect">
              <a:avLst/>
            </a:prstGeom>
            <a:ln w="0">
              <a:noFill/>
            </a:ln>
          </p:spPr>
        </p:pic>
        <p:sp>
          <p:nvSpPr>
            <p:cNvPr id="275" name=""/>
            <p:cNvSpPr/>
            <p:nvPr/>
          </p:nvSpPr>
          <p:spPr>
            <a:xfrm>
              <a:off x="514440" y="487368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ea typeface="Tahoma"/>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67636-839E-4906-9958-B8A7617FD859}" type="slidenum">
              <a:rPr b="0" lang="ar-IQ"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ea typeface="Tahoma"/>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617C-3D15-4626-8610-84DA3E22986A}" type="slidenum">
              <a:rPr b="0" lang="ar-IQ"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ea typeface="Tahoma"/>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45B0-D2E2-428E-B980-F24EF71E080B}" type="slidenum">
              <a:rPr b="0" lang="ar-IQ" sz="1200" spc="-1" strike="noStrike">
                <a:solidFill>
                  <a:srgbClr val="d38e27"/>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04920" y="878040"/>
            <a:ext cx="8686800" cy="4619520"/>
          </a:xfrm>
          <a:prstGeom prst="rect">
            <a:avLst/>
          </a:prstGeom>
          <a:noFill/>
          <a:ln w="0">
            <a:noFill/>
          </a:ln>
        </p:spPr>
        <p:txBody>
          <a:bodyPr anchor="t">
            <a:normAutofit fontScale="97000"/>
          </a:bodyPr>
          <a:p>
            <a:pPr marL="332640" indent="-332640" algn="r" rtl="1">
              <a:lnSpc>
                <a:spcPct val="15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cs typeface="Times New Roman"/>
              </a:rPr>
              <a:t>جمع وتجهيز النباتات الطبية:</a:t>
            </a:r>
            <a:endParaRPr b="0" lang="en-US" sz="2000" spc="-1" strike="noStrike">
              <a:solidFill>
                <a:srgbClr val="4e3b30"/>
              </a:solidFill>
              <a:latin typeface="Franklin Gothic Book"/>
            </a:endParaRPr>
          </a:p>
          <a:p>
            <a:pPr marL="332640" indent="-332640" algn="r" rtl="1">
              <a:lnSpc>
                <a:spcPct val="15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ea typeface="Times New Roman"/>
              </a:rPr>
              <a:t> عند جمع النباتات الطبية يجب مراعاة الآتي:</a:t>
            </a:r>
            <a:endParaRPr b="0" lang="en-US" sz="2000" spc="-1" strike="noStrike">
              <a:solidFill>
                <a:srgbClr val="4e3b30"/>
              </a:solidFill>
              <a:latin typeface="Franklin Gothic Book"/>
            </a:endParaRPr>
          </a:p>
          <a:p>
            <a:pPr marL="332640" indent="-332640" algn="r" rtl="1">
              <a:lnSpc>
                <a:spcPct val="150000"/>
              </a:lnSpc>
              <a:spcBef>
                <a:spcPts val="499"/>
              </a:spcBef>
              <a:buClr>
                <a:srgbClr val="f0a22e"/>
              </a:buClr>
              <a:buSzPct val="7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التحقق من النبات النامي برياً قبل جمعه.</a:t>
            </a:r>
            <a:endParaRPr b="0" lang="en-US" sz="2000" spc="-1" strike="noStrike">
              <a:solidFill>
                <a:srgbClr val="4e3b30"/>
              </a:solidFill>
              <a:latin typeface="Franklin Gothic Book"/>
            </a:endParaRPr>
          </a:p>
          <a:p>
            <a:pPr marL="332640" indent="-332640" algn="r" rtl="1">
              <a:lnSpc>
                <a:spcPct val="150000"/>
              </a:lnSpc>
              <a:spcBef>
                <a:spcPts val="499"/>
              </a:spcBef>
              <a:buClr>
                <a:srgbClr val="f0a22e"/>
              </a:buClr>
              <a:buSzPct val="7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معرفة الموسم الملائم لجمع النبات.</a:t>
            </a:r>
            <a:endParaRPr b="0" lang="en-US" sz="2000" spc="-1" strike="noStrike">
              <a:solidFill>
                <a:srgbClr val="4e3b30"/>
              </a:solidFill>
              <a:latin typeface="Franklin Gothic Book"/>
            </a:endParaRPr>
          </a:p>
          <a:p>
            <a:pPr marL="332640" indent="-332640" algn="r" rtl="1">
              <a:lnSpc>
                <a:spcPct val="150000"/>
              </a:lnSpc>
              <a:spcBef>
                <a:spcPts val="499"/>
              </a:spcBef>
              <a:buClr>
                <a:srgbClr val="f0a22e"/>
              </a:buClr>
              <a:buSzPct val="7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ان يكون النبات خالياً من الشوائب مثل النباتات الاخرى او الاجزاء النباتية غير الجزء المستعمل مثل الحصى والتراب وغيرها.</a:t>
            </a:r>
            <a:endParaRPr b="0" lang="en-US" sz="2000" spc="-1" strike="noStrike">
              <a:solidFill>
                <a:srgbClr val="4e3b30"/>
              </a:solidFill>
              <a:latin typeface="Franklin Gothic Book"/>
            </a:endParaRPr>
          </a:p>
          <a:p>
            <a:pPr marL="332640" indent="-332640" algn="r" rtl="1">
              <a:lnSpc>
                <a:spcPct val="150000"/>
              </a:lnSpc>
              <a:spcBef>
                <a:spcPts val="499"/>
              </a:spcBef>
              <a:buClr>
                <a:srgbClr val="f0a22e"/>
              </a:buClr>
              <a:buSzPct val="7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العناية بتجفيف الاجزاء النباتية بالطريقة الصحيحة حتى تحتفظ بمظهرها.</a:t>
            </a:r>
            <a:endParaRPr b="0" lang="en-US" sz="2000" spc="-1" strike="noStrike">
              <a:solidFill>
                <a:srgbClr val="4e3b30"/>
              </a:solidFill>
              <a:latin typeface="Franklin Gothic Book"/>
            </a:endParaRPr>
          </a:p>
          <a:p>
            <a:pPr marL="332640" indent="-332640" algn="r" rtl="1">
              <a:lnSpc>
                <a:spcPct val="15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Franklin Gothic Book"/>
                <a:cs typeface="Times New Roman"/>
              </a:rPr>
              <a:t>الوقاية من الاصابة بالحشرات بتعبئتها تعبئة صحيحة في اكياس كبيرة او صناديق او براميل مغلقة واضافة بعض المواد مثل الكلوروفورم لمنع الحشرات من الاضرار بها.</a:t>
            </a: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936360"/>
            <a:ext cx="8686800" cy="4560840"/>
          </a:xfrm>
          <a:prstGeom prst="rect">
            <a:avLst/>
          </a:prstGeom>
          <a:noFill/>
          <a:ln w="0">
            <a:noFill/>
          </a:ln>
        </p:spPr>
        <p:txBody>
          <a:bodyPr anchor="t">
            <a:normAutofit fontScale="88000"/>
          </a:bodyPr>
          <a:p>
            <a:pPr marL="301680" indent="155880" algn="r" rtl="1">
              <a:lnSpc>
                <a:spcPct val="14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700" spc="-1" strike="noStrike">
                <a:solidFill>
                  <a:srgbClr val="000000"/>
                </a:solidFill>
                <a:latin typeface="Calibri"/>
                <a:ea typeface="Times New Roman"/>
              </a:rPr>
              <a:t> يمكن بالخبرة معرفة الوقت المناسب للحصاد للحصول على اكبر كمية من المادة الفعالة، ويتضح هذا في نبات السكران العالمي </a:t>
            </a:r>
            <a:r>
              <a:rPr b="0" i="1" lang="en-US" sz="2700" spc="-1" strike="noStrike">
                <a:solidFill>
                  <a:srgbClr val="000000"/>
                </a:solidFill>
                <a:latin typeface="Times New Roman"/>
                <a:ea typeface="Arial"/>
              </a:rPr>
              <a:t>Hyoscyamus niger</a:t>
            </a:r>
            <a:r>
              <a:rPr b="0" lang="ar-IQ" sz="2700" spc="-1" strike="noStrike">
                <a:solidFill>
                  <a:srgbClr val="000000"/>
                </a:solidFill>
                <a:latin typeface="Calibri"/>
                <a:ea typeface="Times New Roman"/>
              </a:rPr>
              <a:t> حيث تختلف كمية الهيوسيامين وهي المادة الفعالة التي تستخلص من النبات وذلك باختلاف موعد حصادها. </a:t>
            </a:r>
            <a:endParaRPr b="0" lang="en-US" sz="2700" spc="-1" strike="noStrike">
              <a:solidFill>
                <a:srgbClr val="4e3b30"/>
              </a:solidFill>
              <a:latin typeface="Franklin Gothic Book"/>
            </a:endParaRPr>
          </a:p>
          <a:p>
            <a:pPr marL="301680" indent="155880" algn="r" rtl="1">
              <a:lnSpc>
                <a:spcPct val="14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700" spc="-1" strike="noStrike">
                <a:solidFill>
                  <a:srgbClr val="000000"/>
                </a:solidFill>
                <a:latin typeface="Calibri"/>
                <a:ea typeface="Times New Roman"/>
              </a:rPr>
              <a:t> وجد ان اعلى نسبة من الهيوسيامين في الجذور تكون في شهر تشرين الثاني حيث بلغت </a:t>
            </a:r>
            <a:r>
              <a:rPr b="0" lang="ar-IQ" sz="2700" spc="-1" strike="noStrike">
                <a:solidFill>
                  <a:srgbClr val="000000"/>
                </a:solidFill>
                <a:latin typeface="Calibri"/>
                <a:ea typeface="Times New Roman"/>
              </a:rPr>
              <a:t>0.9</a:t>
            </a:r>
            <a:r>
              <a:rPr b="0" lang="ar-IQ" sz="2700" spc="-1" strike="noStrike">
                <a:solidFill>
                  <a:srgbClr val="000000"/>
                </a:solidFill>
                <a:latin typeface="Calibri"/>
                <a:ea typeface="Times New Roman"/>
              </a:rPr>
              <a:t>% في حين ان اعلى نسبة من المادة الفعالة في الاوراق امكن الحصول عليها كانت في شهر ايلول </a:t>
            </a:r>
            <a:r>
              <a:rPr b="0" lang="ar-IQ" sz="2700" spc="-1" strike="noStrike">
                <a:solidFill>
                  <a:srgbClr val="000000"/>
                </a:solidFill>
                <a:latin typeface="Calibri"/>
                <a:ea typeface="Times New Roman"/>
              </a:rPr>
              <a:t>0.25</a:t>
            </a:r>
            <a:r>
              <a:rPr b="0" lang="ar-IQ" sz="2700" spc="-1" strike="noStrike">
                <a:solidFill>
                  <a:srgbClr val="000000"/>
                </a:solidFill>
                <a:latin typeface="Calibri"/>
                <a:ea typeface="Times New Roman"/>
              </a:rPr>
              <a:t>% عن الشهور الاخرى.</a:t>
            </a:r>
            <a:endParaRPr b="0" lang="en-US" sz="2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878040"/>
            <a:ext cx="8686800" cy="4619520"/>
          </a:xfrm>
          <a:prstGeom prst="rect">
            <a:avLst/>
          </a:prstGeom>
          <a:noFill/>
          <a:ln w="0">
            <a:noFill/>
          </a:ln>
        </p:spPr>
        <p:txBody>
          <a:bodyPr anchor="t">
            <a:normAutofit fontScale="92000"/>
          </a:bodyPr>
          <a:p>
            <a:pPr marL="315360" indent="163080" algn="r" rtl="1">
              <a:lnSpc>
                <a:spcPct val="13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alibri"/>
                <a:ea typeface="Times New Roman"/>
              </a:rPr>
              <a:t> قد تكون المادة الطبية الفعالة موجودة بنسب مختلفة باختلاف هذه الاجزاء وتتركز في جزء خاص منها حيث تجمع للاستغلال الاقتصادي وفي بعض النباتات توجد المادة النباتية الطبية في اجزاء خاصة او انسجة خاصة من هذه الاجزاء فقط وان معظم اجزاء نبات الداتورة تستعمل في استخراج واستخلاص هذه المواد، وان اعلى نسبة توجد في البراعم الزهرية الصغيرة حيث تبلغ </a:t>
            </a:r>
            <a:r>
              <a:rPr b="0" lang="ar-IQ" sz="2200" spc="-1" strike="noStrike">
                <a:solidFill>
                  <a:srgbClr val="000000"/>
                </a:solidFill>
                <a:latin typeface="Calibri"/>
                <a:ea typeface="Times New Roman"/>
              </a:rPr>
              <a:t>0.66</a:t>
            </a:r>
            <a:r>
              <a:rPr b="0" lang="ar-IQ" sz="2200" spc="-1" strike="noStrike">
                <a:solidFill>
                  <a:srgbClr val="000000"/>
                </a:solidFill>
                <a:latin typeface="Calibri"/>
                <a:ea typeface="Times New Roman"/>
              </a:rPr>
              <a:t>% تليها الازهار غير المتفتحة وتبلغ النسبة </a:t>
            </a:r>
            <a:r>
              <a:rPr b="0" lang="ar-IQ" sz="2200" spc="-1" strike="noStrike">
                <a:solidFill>
                  <a:srgbClr val="000000"/>
                </a:solidFill>
                <a:latin typeface="Calibri"/>
                <a:ea typeface="Times New Roman"/>
              </a:rPr>
              <a:t>0.5</a:t>
            </a:r>
            <a:r>
              <a:rPr b="0" lang="ar-IQ" sz="2200" spc="-1" strike="noStrike">
                <a:solidFill>
                  <a:srgbClr val="000000"/>
                </a:solidFill>
                <a:latin typeface="Calibri"/>
                <a:ea typeface="Times New Roman"/>
              </a:rPr>
              <a:t>% تليها الثمار الناضجة </a:t>
            </a:r>
            <a:r>
              <a:rPr b="0" lang="ar-IQ" sz="2200" spc="-1" strike="noStrike">
                <a:solidFill>
                  <a:srgbClr val="000000"/>
                </a:solidFill>
                <a:latin typeface="Calibri"/>
                <a:ea typeface="Times New Roman"/>
              </a:rPr>
              <a:t>0.45</a:t>
            </a:r>
            <a:r>
              <a:rPr b="0" lang="ar-IQ" sz="2200" spc="-1" strike="noStrike">
                <a:solidFill>
                  <a:srgbClr val="000000"/>
                </a:solidFill>
                <a:latin typeface="Calibri"/>
                <a:ea typeface="Times New Roman"/>
              </a:rPr>
              <a:t>% ثم البذور الناضجة.</a:t>
            </a:r>
            <a:endParaRPr b="0" lang="en-US" sz="2200" spc="-1" strike="noStrike">
              <a:solidFill>
                <a:srgbClr val="4e3b30"/>
              </a:solidFill>
              <a:latin typeface="Franklin Gothic Book"/>
            </a:endParaRPr>
          </a:p>
          <a:p>
            <a:pPr marL="315360" indent="163080" algn="r" rtl="1">
              <a:lnSpc>
                <a:spcPct val="13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alibri"/>
                <a:ea typeface="Times New Roman"/>
              </a:rPr>
              <a:t> وجد احياناً ان السيقان الحديثة بها نسبة اكبر من السيقان الناضجة وتتبع النسبة في الاوراق نفس الاتجاه الذي تتبعه نسبة القلويدات في السيقان واقل نسبة توجد في الجذور حيث تصل الى ادنى حد </a:t>
            </a:r>
            <a:r>
              <a:rPr b="0" lang="ar-IQ" sz="2200" spc="-1" strike="noStrike">
                <a:solidFill>
                  <a:srgbClr val="000000"/>
                </a:solidFill>
                <a:latin typeface="Calibri"/>
                <a:ea typeface="Times New Roman"/>
              </a:rPr>
              <a:t>0.14</a:t>
            </a:r>
            <a:r>
              <a:rPr b="0" lang="ar-IQ" sz="2200" spc="-1" strike="noStrike">
                <a:solidFill>
                  <a:srgbClr val="000000"/>
                </a:solidFill>
                <a:latin typeface="Calibri"/>
                <a:ea typeface="Times New Roman"/>
              </a:rPr>
              <a:t>%، ولذلك يفضل جمع الاجزاء ذات النسب العالية وكذلك ذات العمر الحديث حيث تزداد نسب المواد الفعالة بها.</a:t>
            </a: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878040"/>
            <a:ext cx="8686800" cy="4619520"/>
          </a:xfrm>
          <a:prstGeom prst="rect">
            <a:avLst/>
          </a:prstGeom>
          <a:noFill/>
          <a:ln w="0">
            <a:noFill/>
          </a:ln>
        </p:spPr>
        <p:txBody>
          <a:bodyPr anchor="t">
            <a:normAutofit fontScale="93000"/>
          </a:bodyPr>
          <a:p>
            <a:pPr marL="318960" indent="164880" algn="r" rtl="1">
              <a:lnSpc>
                <a:spcPct val="15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Calibri"/>
                <a:ea typeface="Times New Roman"/>
              </a:rPr>
              <a:t> قد يتأثر تركيز المادة الفعالة في النباتات الطبية باختلاف الوقت من النهار والذي تجمع فيه هذه الاجزاء فمثلاً تركيز الكلايكوسيدات في اوراق النبات تكون مرتفعة عند جمعها بعد الظهر عن مثيلتها التي جمعت في الصباح والسبب في ذلك ان الكلايكوسيدات النشطة تتحلل اثناء الليل وتتحول الى مادة غير فعالة او اقل في نشاطها الفسيولوجي ثم تتحد ثانية بالسكريات اثناء النهار مكونة الكلايكوسيدات.</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04920" y="878040"/>
            <a:ext cx="8686800" cy="4619520"/>
          </a:xfrm>
          <a:prstGeom prst="rect">
            <a:avLst/>
          </a:prstGeom>
          <a:noFill/>
          <a:ln w="0">
            <a:noFill/>
          </a:ln>
        </p:spPr>
        <p:txBody>
          <a:bodyPr anchor="t">
            <a:normAutofit fontScale="96000"/>
          </a:bodyPr>
          <a:p>
            <a:pPr marL="329040" indent="-329040" algn="r" rtl="1">
              <a:lnSpc>
                <a:spcPct val="15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000000"/>
                </a:solidFill>
                <a:latin typeface="Calibri"/>
                <a:cs typeface="Times New Roman"/>
              </a:rPr>
              <a:t>جمع الازهار:</a:t>
            </a:r>
            <a:endParaRPr b="0" lang="en-US" sz="2200" spc="-1" strike="noStrike">
              <a:solidFill>
                <a:srgbClr val="4e3b30"/>
              </a:solidFill>
              <a:latin typeface="Franklin Gothic Book"/>
            </a:endParaRPr>
          </a:p>
          <a:p>
            <a:pPr marL="329040" indent="-329040" algn="r" rtl="1">
              <a:lnSpc>
                <a:spcPct val="15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alibri"/>
                <a:ea typeface="Times New Roman"/>
              </a:rPr>
              <a:t> تقطف الازهار عموماً عند تفتحها مثل النارنج والبرتقال، وفي الشيح تجمع الازهار قبل تفتحها وقد تجمع المياسم فقط كما في الزعفران او يجمع الكأس كما في الكركدية. وتجمع الازهار بقطفها باليد وتجفف في الظل بعيداً عن الرطوبة والضوء ولا تُعرض لدرجة حرارة مرتفعة لتحتفظ بلونها ورائحتها.</a:t>
            </a:r>
            <a:endParaRPr b="0" lang="en-US" sz="2200" spc="-1" strike="noStrike">
              <a:solidFill>
                <a:srgbClr val="4e3b30"/>
              </a:solidFill>
              <a:latin typeface="Franklin Gothic Book"/>
            </a:endParaRPr>
          </a:p>
          <a:p>
            <a:pPr marL="329040" indent="-329040" algn="r" rtl="1">
              <a:lnSpc>
                <a:spcPct val="15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alibri"/>
                <a:ea typeface="Times New Roman"/>
              </a:rPr>
              <a:t> في كثير من الاحوال يجب الحصول على الازهار في حالة جيدة وذلك بجمعها في الوقت والمرحلة المناسبة ولذلك قد تمتد عملية جمع الازهار الى بضعة اسابيع، وتجمع الازهار غالباً في الصباح الباكر قبل اشتداد الحرارة التي قد تؤثر في تغير خصائص الزيت وتسبب تطايره. </a:t>
            </a: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936360"/>
            <a:ext cx="8686800" cy="4500360"/>
          </a:xfrm>
          <a:prstGeom prst="rect">
            <a:avLst/>
          </a:prstGeom>
          <a:noFill/>
          <a:ln w="0">
            <a:noFill/>
          </a:ln>
        </p:spPr>
        <p:txBody>
          <a:bodyPr anchor="t">
            <a:normAutofit fontScale="94000"/>
          </a:bodyPr>
          <a:p>
            <a:pPr marL="322200" indent="-322200" algn="r" rtl="1">
              <a:lnSpc>
                <a:spcPct val="13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00000"/>
                </a:solidFill>
                <a:latin typeface="Calibri"/>
                <a:cs typeface="Times New Roman"/>
              </a:rPr>
              <a:t>جمع الاوراق:</a:t>
            </a:r>
            <a:endParaRPr b="0" lang="en-US" sz="1900" spc="-1" strike="noStrike">
              <a:solidFill>
                <a:srgbClr val="4e3b30"/>
              </a:solidFill>
              <a:latin typeface="Franklin Gothic Book"/>
            </a:endParaRPr>
          </a:p>
          <a:p>
            <a:pPr marL="322200" indent="-322200" algn="r" rtl="1">
              <a:lnSpc>
                <a:spcPct val="13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alibri"/>
                <a:ea typeface="Times New Roman"/>
              </a:rPr>
              <a:t> تجمع الاوراق (وهي من اجزاء النبات النشيطة فسيولوجياً) في الوقت الذي تنتظر فيه ان يصل النشاط اقصاه وقبل انتقال المواد الفعالة منها الى اجزاء النبات الاخرى (اي قبل اكتمال تفتح الازهار او نضج الثمار مثلاً).</a:t>
            </a:r>
            <a:endParaRPr b="0" lang="en-US" sz="1900" spc="-1" strike="noStrike">
              <a:solidFill>
                <a:srgbClr val="4e3b30"/>
              </a:solidFill>
              <a:latin typeface="Franklin Gothic Book"/>
            </a:endParaRPr>
          </a:p>
          <a:p>
            <a:pPr marL="322200" indent="-322200" algn="r" rtl="1">
              <a:lnSpc>
                <a:spcPct val="13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alibri"/>
                <a:ea typeface="Times New Roman"/>
              </a:rPr>
              <a:t> تجمع الاوراق بقطفها من النبات او تؤخذ بعد قطعه واقتلاعه. وغالباً ما يعلق النبات مقلوباً ويتم جمع الاوراق منه بعد جفافها. وفي حالة جمع الاوراق من النبات الاخضر تنشر في طبقات صغيرة على صواني او رفوف على الارضية النظيفة وتقلب باستمرار يومياً حتى تجف ثم تجمع في طبقات او حزم مناسبة الحجم ويكون التجفيف في الظل لتحتفظ بلونها الاخضر. ويجب ان لا تعرض للرطوبة خصوصاً المطر والندى.</a:t>
            </a:r>
            <a:endParaRPr b="0" lang="en-US" sz="1900" spc="-1" strike="noStrike">
              <a:solidFill>
                <a:srgbClr val="4e3b30"/>
              </a:solidFill>
              <a:latin typeface="Franklin Gothic Book"/>
            </a:endParaRPr>
          </a:p>
          <a:p>
            <a:pPr marL="322200" indent="-322200" algn="r" rtl="1">
              <a:lnSpc>
                <a:spcPct val="13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alibri"/>
                <a:ea typeface="Times New Roman"/>
              </a:rPr>
              <a:t> واذا كان من الضروري غسل الاوراق فيفضل ان يتم ذلك وهي خضراء طازجة وذلك بقطع النبات كله وغمره في ماء نظيف ثم يهز لإزالة الماء العالق به ويعلق في وضع مقلوب ولا ينصح بغسل الاوراق الا في حالة الضرورة القصوى.</a:t>
            </a:r>
            <a:endParaRPr b="0" lang="en-US" sz="19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04920" y="936720"/>
            <a:ext cx="8686800" cy="4620960"/>
          </a:xfrm>
          <a:prstGeom prst="rect">
            <a:avLst/>
          </a:prstGeom>
          <a:noFill/>
          <a:ln w="0">
            <a:noFill/>
          </a:ln>
        </p:spPr>
        <p:txBody>
          <a:bodyPr anchor="t">
            <a:normAutofit fontScale="95000"/>
          </a:bodyPr>
          <a:p>
            <a:pPr marL="325800" indent="-325800" algn="r" rtl="1">
              <a:lnSpc>
                <a:spcPct val="13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00000"/>
                </a:solidFill>
                <a:latin typeface="Calibri"/>
                <a:cs typeface="Times New Roman"/>
              </a:rPr>
              <a:t>جمع النبات:</a:t>
            </a:r>
            <a:endParaRPr b="0" lang="en-US" sz="1900" spc="-1" strike="noStrike">
              <a:solidFill>
                <a:srgbClr val="4e3b30"/>
              </a:solidFill>
              <a:latin typeface="Franklin Gothic Book"/>
            </a:endParaRPr>
          </a:p>
          <a:p>
            <a:pPr marL="325800" indent="-325800" algn="r" rtl="1">
              <a:lnSpc>
                <a:spcPct val="13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alibri"/>
                <a:ea typeface="Times New Roman"/>
              </a:rPr>
              <a:t> وذلك بجمع الجزء الظاهر من النبات فوق سطح التربة كما في البردقوش والريحان والنعناع. وتجمع عندما يكون النبات في اوج نشاطه وقت بدء الازهار وتقطع النباتات او تعلق في وضع مقلوب في مكان جيد التهوية للتجفيف او تنشر في طبقات قليلة السمك وتقلب جيداً باستمرار في الظل للحفاظ على اللون الاخضر ويتجنب المطر والندى.</a:t>
            </a:r>
            <a:endParaRPr b="0" lang="en-US" sz="1900" spc="-1" strike="noStrike">
              <a:solidFill>
                <a:srgbClr val="4e3b30"/>
              </a:solidFill>
              <a:latin typeface="Franklin Gothic Book"/>
            </a:endParaRPr>
          </a:p>
          <a:p>
            <a:pPr marL="325800" indent="-325800" algn="r" rtl="1">
              <a:lnSpc>
                <a:spcPct val="13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00000"/>
                </a:solidFill>
                <a:latin typeface="Calibri"/>
                <a:cs typeface="Times New Roman"/>
              </a:rPr>
              <a:t>جمع القشور:</a:t>
            </a:r>
            <a:endParaRPr b="0" lang="en-US" sz="1900" spc="-1" strike="noStrike">
              <a:solidFill>
                <a:srgbClr val="4e3b30"/>
              </a:solidFill>
              <a:latin typeface="Franklin Gothic Book"/>
            </a:endParaRPr>
          </a:p>
          <a:p>
            <a:pPr marL="325800" indent="-325800" algn="r" rtl="1">
              <a:lnSpc>
                <a:spcPct val="13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alibri"/>
                <a:ea typeface="Times New Roman"/>
              </a:rPr>
              <a:t> تجمع القشور عند نهاية موسم النشاط في الخريف والشتاء ولكن غالباً ما يؤجل جمعها حتى بداية فصل الربيع وذلك ليسهل فصلها من السيقان والفروع بعد ابتداء سريان العصارة. ويمكن جمع قشور السيقان بعمل قطاعات متبادلة عرضها </a:t>
            </a:r>
            <a:r>
              <a:rPr b="0" lang="ar-IQ" sz="1900" spc="-1" strike="noStrike">
                <a:solidFill>
                  <a:srgbClr val="000000"/>
                </a:solidFill>
                <a:latin typeface="Calibri"/>
                <a:ea typeface="Times New Roman"/>
              </a:rPr>
              <a:t>30</a:t>
            </a:r>
            <a:r>
              <a:rPr b="0" lang="ar-IQ" sz="1900" spc="-1" strike="noStrike">
                <a:solidFill>
                  <a:srgbClr val="000000"/>
                </a:solidFill>
                <a:latin typeface="Calibri"/>
                <a:ea typeface="Times New Roman"/>
              </a:rPr>
              <a:t> سم ويبعد كل قطاع عن الآخر حوالي </a:t>
            </a:r>
            <a:r>
              <a:rPr b="0" lang="ar-IQ" sz="1900" spc="-1" strike="noStrike">
                <a:solidFill>
                  <a:srgbClr val="000000"/>
                </a:solidFill>
                <a:latin typeface="Calibri"/>
                <a:ea typeface="Times New Roman"/>
              </a:rPr>
              <a:t>30</a:t>
            </a:r>
            <a:r>
              <a:rPr b="0" lang="ar-IQ" sz="1900" spc="-1" strike="noStrike">
                <a:solidFill>
                  <a:srgbClr val="000000"/>
                </a:solidFill>
                <a:latin typeface="Calibri"/>
                <a:ea typeface="Times New Roman"/>
              </a:rPr>
              <a:t> سم ثم تسلخ من الساق. وتكرر العملية عند تكوين قشور جديدة مكان التي نزعت منها وهكذا بالتبادل وتجفف القشور بنفس الطريقة المستعملة في تجفيف الاوراق وقد يقشر القلف عند نضجه كما في نبات القرفة (الدارسين).</a:t>
            </a:r>
            <a:endParaRPr b="0" lang="en-US" sz="19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04920" y="936720"/>
            <a:ext cx="8686800" cy="4620960"/>
          </a:xfrm>
          <a:prstGeom prst="rect">
            <a:avLst/>
          </a:prstGeom>
          <a:noFill/>
          <a:ln w="0">
            <a:noFill/>
          </a:ln>
        </p:spPr>
        <p:txBody>
          <a:bodyPr anchor="t">
            <a:normAutofit fontScale="90000"/>
          </a:bodyPr>
          <a:p>
            <a:pPr marL="308520" indent="-308520" algn="r" rtl="1">
              <a:lnSpc>
                <a:spcPct val="130000"/>
              </a:lnSpc>
              <a:spcBef>
                <a:spcPts val="476"/>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00000"/>
                </a:solidFill>
                <a:latin typeface="Times New Roman"/>
                <a:cs typeface="Times New Roman"/>
              </a:rPr>
              <a:t>جمع الجذور:</a:t>
            </a:r>
            <a:endParaRPr b="0" lang="en-US" sz="1900" spc="-1" strike="noStrike">
              <a:solidFill>
                <a:srgbClr val="4e3b30"/>
              </a:solidFill>
              <a:latin typeface="Franklin Gothic Book"/>
            </a:endParaRPr>
          </a:p>
          <a:p>
            <a:pPr marL="308520" indent="-308520" algn="r" rtl="1">
              <a:lnSpc>
                <a:spcPct val="130000"/>
              </a:lnSpc>
              <a:spcBef>
                <a:spcPts val="476"/>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Times New Roman"/>
                <a:cs typeface="Times New Roman"/>
              </a:rPr>
              <a:t>تجمع الجذور والرايزومات والابصال وغيرها من اعضاء او انسجة التخزين قرب او عند نهاية موسم النشاط في الخريف والشتاء، وعادة تجمع جذور النباتات الحولية قبل بدء الازهار مباشرة وتجمع جذور النباتات ذات الحولين في خريف السنة الثانية اما النباتات المعمرة فتجمع جذورها عادة في الخريف او الشتاء او في الربيع وذلك قبل بدء النمو الخضري. تغسل الجذور بعد جمعها وتجفف وليس من المستحسن تعرضها للشمس ولو انها متبعة في بعض الاحيان. وغالباً ما تقطع الجذور الكبيرة الى قطع صغيرة قبل التجفيف كما هو متبع في جمع جذور البلادونا وعرق السوس. </a:t>
            </a:r>
            <a:endParaRPr b="0" lang="en-US" sz="1900" spc="-1" strike="noStrike">
              <a:solidFill>
                <a:srgbClr val="4e3b30"/>
              </a:solidFill>
              <a:latin typeface="Franklin Gothic Book"/>
            </a:endParaRPr>
          </a:p>
          <a:p>
            <a:pPr marL="308520" indent="-308520" algn="r" rtl="1">
              <a:lnSpc>
                <a:spcPct val="130000"/>
              </a:lnSpc>
              <a:spcBef>
                <a:spcPts val="275"/>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00000"/>
                </a:solidFill>
                <a:latin typeface="Times New Roman"/>
                <a:cs typeface="Times New Roman"/>
              </a:rPr>
              <a:t>جمع الثمار والبذور:</a:t>
            </a:r>
            <a:r>
              <a:rPr b="0" lang="ar-IQ" sz="1100" spc="-1" strike="noStrike">
                <a:solidFill>
                  <a:srgbClr val="000000"/>
                </a:solidFill>
                <a:latin typeface="Times New Roman"/>
                <a:ea typeface="Times New Roman"/>
              </a:rPr>
              <a:t> </a:t>
            </a:r>
            <a:endParaRPr b="0" lang="en-US" sz="1100" spc="-1" strike="noStrike">
              <a:solidFill>
                <a:srgbClr val="4e3b30"/>
              </a:solidFill>
              <a:latin typeface="Franklin Gothic Book"/>
            </a:endParaRPr>
          </a:p>
          <a:p>
            <a:pPr marL="308520" indent="-308520" algn="r" rtl="1">
              <a:lnSpc>
                <a:spcPct val="130000"/>
              </a:lnSpc>
              <a:spcBef>
                <a:spcPts val="476"/>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Times New Roman"/>
                <a:cs typeface="Times New Roman"/>
              </a:rPr>
              <a:t>تحدث بالثمار تغيرات كيميائية كبيرة اثناء النضج ولذك يجب جمعها بعد اكتمال حجمها وقبل النضج الكامل. اما البذور فتجمع وهي ناضجة. قد تجمع بعض النباتات على مرات عديدة حسب وقت نضج هذه الثمار كما في نباتات العائلة الخيمية وبذور نباتات الخروع وتجمع ثمار الداتورة قبل تفتحها.  </a:t>
            </a:r>
            <a:endParaRPr b="0" lang="en-US" sz="19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06T18:13:04Z</dcterms:created>
  <dc:creator>wahab</dc:creator>
  <dc:description/>
  <dc:language>en-US</dc:language>
  <cp:lastModifiedBy>DR.Ahmed Saker 2o1O</cp:lastModifiedBy>
  <dcterms:modified xsi:type="dcterms:W3CDTF">2018-11-23T16:20:50Z</dcterms:modified>
  <cp:revision>7</cp:revision>
  <dc:subject/>
  <dc:title>PowerPoint Presentation</dc:title>
</cp:coreProperties>
</file>